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F17-C418-485A-8BA6-018152D7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806-7506-49C8-9FB5-2079569D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8BA-09E8-4A56-B05A-12CD67F7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74B-BD74-44B7-80CE-9824D7EA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E780-C295-41B2-B38E-0FFE6C56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6F4D-8F7D-47A7-A370-31C88545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628A-4073-47C5-80F4-DD91B40F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215A-761B-41E4-B353-20D3660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0D1E-CFC0-45A8-84CB-2A777E2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88D-EFF2-445A-B45D-3172BE4A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F380-860D-4210-916E-F38D54B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712-C3B4-48C1-B676-A7EBD20B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A42-FD85-4322-9907-3E4478D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BD4E-79BD-4FD1-815A-DC2F4D9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436F-828A-483E-A26C-6F9DA34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B5D-4A86-42C7-895A-42AD18F2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953-B72B-4FE8-B7EC-690A205A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31D-3542-423A-BD10-F1BE7254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CD3-8DEF-4802-A2C7-FD80252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422-B83A-47DD-AE9D-3027A45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A3D-0161-46CE-A63D-902B543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F6E-68C1-4969-A59A-6EFA5CD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D22-00AC-49D1-869A-E596C1B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6D5-2158-4D10-BAD1-986BEF9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282-04EC-40EB-9EB1-653149B7C3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D223-4038-4705-BD5C-F833303A54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Preparedness &amp; Mitigation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  Health System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678168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echnical Health Program 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  Health management in shelters or temporary settlements---control of infectious diseases, vaccination of children, nutrition surveil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 Training Health personnel &amp; public health management ---in service training ,professional staff, professional curriculum, research, officers ongoing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.  Logistic resources---budget, networ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.  Simulation exercises—desktop, fiel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xercise, dr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543800" y="1952640"/>
            <a:ext cx="762120" cy="1467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Technical Health Program  contd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acuation :temporary transfer of population from areas at risk  to safer location.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93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d e.g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tropical storm air attack,military action, industrial  accidents)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93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ntaneous   e.g..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floods,drought,chemical &amp;nuclear acci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health services : --short travel time ,clean potable water,excreta solid waste rest stop &amp; knowled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warning :simple language ,clear exact nature of mess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ore of radio &amp; broad cas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48720" y="3886200"/>
            <a:ext cx="1295280" cy="2971800"/>
            <a:chOff x="7848720" y="3886200"/>
            <a:chExt cx="1295280" cy="29718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848720" y="3886200"/>
              <a:ext cx="12952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7848720" y="3886200"/>
              <a:ext cx="12952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413480" y="14479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ealth policy &amp; legisl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705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islation to develop preparedness &amp;response plan, routine, simulation assign financial resour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rdination mechanism :health disaster coordinator  -Incharge of preparednes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ities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ordinating plans with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vernment ,International agencies, NG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&amp;other dept.. water, housing power ,communic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communication &amp;co ordination with PAHO, WHO&amp; civil protection agencies, emergency preparedness progr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Mitigation and prevention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fini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 are actions aimed at reducing or eliminating the impact of future hazard events by avoiding hazard or strengthening resistance to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jectives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vulnerability of  th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 improving &amp; enforcing building c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00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magnitude o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za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diverting flow of riv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1240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ulnerability and capacity assessm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degree to which population, individual, or organization is unable to anticipate, cope with resist &amp; recover from the impact of disaster .(Blaikie 1994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sk ,threat assess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o identify hazard &amp;their possible effects, capacity to prevent &amp; respond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velop strategie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mergency  prevention mitigation preparedness measur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pid, relevant emergency respons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aps in resources   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ulnerability reduction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4114800" cy="30546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28600" y="1066680"/>
            <a:ext cx="5791320" cy="5794200"/>
            <a:chOff x="228600" y="1066680"/>
            <a:chExt cx="5791320" cy="5794200"/>
          </a:xfrm>
        </p:grpSpPr>
        <p:cxnSp>
          <p:nvCxnSpPr>
            <p:cNvPr id="166" name="_s59412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3123720" y="2970720"/>
              <a:ext cx="1067400" cy="1676880"/>
            </a:xfrm>
            <a:prstGeom prst="bentConnector3">
              <a:avLst>
                <a:gd name="adj1" fmla="val 1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9411"/>
            <p:cNvCxnSpPr/>
            <p:nvPr/>
          </p:nvCxnSpPr>
          <p:spPr>
            <a:xfrm flipH="1" flipV="1" rot="5400000">
              <a:off x="1523880" y="3047040"/>
              <a:ext cx="1143720" cy="1448640"/>
            </a:xfrm>
            <a:prstGeom prst="bentConnector3">
              <a:avLst>
                <a:gd name="adj1" fmla="val 99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59407"/>
            <p:cNvSpPr/>
            <p:nvPr/>
          </p:nvSpPr>
          <p:spPr>
            <a:xfrm>
              <a:off x="1371600" y="2514240"/>
              <a:ext cx="2895480" cy="762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aramond"/>
                </a:rPr>
                <a:t>Assess vulnerabili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9408"/>
            <p:cNvSpPr/>
            <p:nvPr/>
          </p:nvSpPr>
          <p:spPr>
            <a:xfrm>
              <a:off x="228600" y="441936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revent/mitig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59409"/>
            <p:cNvSpPr/>
            <p:nvPr/>
          </p:nvSpPr>
          <p:spPr>
            <a:xfrm>
              <a:off x="2971800" y="4343040"/>
              <a:ext cx="3048120" cy="83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repare for emergenc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190476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71600" y="1066680"/>
              <a:ext cx="3048120" cy="761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0200" y="1295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aramond"/>
                </a:rPr>
                <a:t>Develop polic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5943240"/>
              <a:ext cx="3352680" cy="533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6035400"/>
              <a:ext cx="32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Vulnerability redu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828800" y="5334120"/>
            <a:ext cx="304920" cy="609480"/>
          </a:xfrm>
          <a:custGeom>
            <a:avLst/>
            <a:gdLst>
              <a:gd name="textAreaLeft" fmla="*/ 40680 w 304920"/>
              <a:gd name="textAreaRight" fmla="*/ 264240 w 3049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334120"/>
            <a:ext cx="304920" cy="53316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eps in VCA 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e aim, objectives, scope&amp; context of VCA&amp; ta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ion of planning group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identification &amp;descri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unity &amp; environmental descri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effects– community vulner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 priorit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mmendation for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ation of results &amp; dec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Programm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reas exposed to natural hazards with help of speciali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rdinate the work of multidisplinary teams in developing design &amp; building co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disaster mitigation in health sec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priority hospitals &amp; critical  health facilities -----current building standards &amp; co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Programm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disaster mitigation measures in maintains plan, structural modification&amp; functional asp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 &amp; sensitize &amp; train those personnel involved in planning, administration, operation, maintenance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disaster mitigation in the curricula of professional training institution related to construction, maintenance, administration, financing &amp; planning health fac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 Preparedn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ities designed to minimize loss of life and damage, to organize the temporary removal of people and property from a threatened location &amp;facilitate ,timely &amp;effective rescue, relief  &amp; rehabili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Mitig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5181840" cy="4724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 facilities – loss of life, hospital fu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uctu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- structu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nistrative /organiza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Drinking water supply ,sewage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Mitigation to reduce community vulner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36196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health system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19320" y="1781280"/>
            <a:ext cx="5410080" cy="4390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uctural vulnerability 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part of building required for support (foundation, columns, beams, diaphragm &amp;supporting walls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n-structural vulnerabilit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ined to  building structure:   e.g. window, door, ro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 functionality:   e. g. plumbing, air-conditioning, power, water, commun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ems located with in building: e.g. medical, furniture, mechanical equip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391520" y="762120"/>
            <a:ext cx="175248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health system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518184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Administrative &amp; organizational vulnerabilit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design : external site, internal , distribution of space, access rou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&amp; functional relationship with diff. sectors e.g. hiring, maintenance, supp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nistrative &amp; operational facility: disaster management, simulation exerci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2514600" cy="247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measu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low cost measures e.g. Non struct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 mitigation at National, local level discussion with all  parties (client, owner, finance officer&amp; technical personnel)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s 4-8 % of total hospital cost—failure of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water supply &amp; sewage system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er supply &amp; sewage system vuln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break of communicable disease &amp; sanitation deteriorates. e.g. Mexico city in198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to quickly &amp; effectively restor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analysis by team –focus on operation maintenance, administration &amp;impact on serv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tigation measures in master pl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s –retrofitting ,replacement, repair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up equipments relocation of components (rigid joints, flexible pip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itigation to reduce to community vulnerabilit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risk of communicabl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 general health status of popu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er &amp; sanitation projects organized by self help basis e.g. community based  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 emergency  planning in disast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edu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with water vend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vention by Government &amp; municipal authorities in industrial plant cont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ferenc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ural disasters protecting public health WHO publ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cipals of disaster mitigation in health facility PAHO publ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health in emergencies &amp; dis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xt book of PA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an journal of public health Jan-march 199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666880" y="37720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 Preparedness contd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238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&amp; International  agencies conduct activities like planning, organization ,training &amp;communicating ,educating the people to provide prompt and appropriate responses to prevent &amp;reduce adverse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going ,multisectoral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al part of national system &amp; responsibi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ce in developed  and developing countries  (infrastructure, resources, management capacity, communication &amp;logistic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62920" y="1600200"/>
          <a:ext cx="1981080" cy="26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600200"/>
                    <a:ext cx="19810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jectives :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excess mortality by impact, rescue, relief , appropriate  health care &amp; disruption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vide appropriate &amp;timely health care for casualities,malnutrition &amp; comm.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exposure to adverse climatic &amp; environmental  condi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long term &amp; short term disaster related morbi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establishment of health services to or above the pre- disaster le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the hazards and  estimate their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ess  the likely needs –preliminary list, local capacity, quantify the needs, consider basic nee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uss the needs –teams involved in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operational procedure &amp; review existing priorities. --- provide frame work, hazard prioritization, fundamental policy set out, goals approve by higher authority, delegation of responsi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 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Assign the responsi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n inventory of local  capacity &amp; available 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  Review steps 2 &amp; 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   Identify critical areas-----strengthening &amp; monitoring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   Confirm priorities ---needs &amp; resources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    contd 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ize the plan ---easy to read, not rigid, standard lay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 the  plan – reg.reviewed , updated, responsible people, identify weak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the plan ---lesson learned &amp; appli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ile an information package –demography, epidemiology,  Geographic Information System (G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ical Health Progra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92160" y="4098960"/>
            <a:ext cx="3063960" cy="275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720" y="1599840"/>
            <a:ext cx="6705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eatment of casual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 hospital  plan : - search &amp; rescue of victims, first aid at disaster site (triage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ital plan :   emergency  plan, training &amp; information  safety of pts &amp;health personn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up system: water, power, communication, transport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685800" y="16765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ical Health Program contd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ication of bodies :coordination with FM, protocol for identification &amp; transp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4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Epidemiological surveillance &amp; disease control     ---simple data collection ,warning mechanism with list of potential illnesses ,special programmes for dis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4480" indent="-474480">
              <a:lnSpc>
                <a:spcPct val="9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sanitation &amp; sanitary Engineering: collaboration with diff.departments ,contingency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81560" y="1523880"/>
            <a:ext cx="296244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5:56:12Z</dcterms:created>
  <dc:creator>user</dc:creator>
  <dc:description/>
  <dc:language>en-US</dc:language>
  <cp:lastModifiedBy>Deptt. of medicine</cp:lastModifiedBy>
  <dcterms:modified xsi:type="dcterms:W3CDTF">2004-05-14T07:49:53Z</dcterms:modified>
  <cp:revision>26</cp:revision>
  <dc:subject/>
  <dc:title>Slide 1</dc:title>
</cp:coreProperties>
</file>